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A79-8712-467A-A1A9-CAA61752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32B-35BE-4382-B1C4-60419B46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3BC-3A74-4EC8-B733-432985F1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11A-797B-4552-88DB-C702216B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F3E-F7E1-4E0B-926D-F6B8588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308-22C0-4D4B-BB7F-100F009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F2F-5C27-423E-8D41-AA7AD58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2DA-4078-4873-BAB4-7BEFE94F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CDA-1BAD-41E7-9D34-B5020A0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90D-F0BF-4DDE-AB10-8B2DC33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CA1-3FA6-43FB-965C-BFC1A4E0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EA7-5D5F-436D-BC94-C7E0AB5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135E-572A-484B-BC55-BD1681439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7" descr=""/>
          <p:cNvPicPr/>
          <p:nvPr/>
        </p:nvPicPr>
        <p:blipFill>
          <a:blip r:embed="rId2"/>
          <a:stretch/>
        </p:blipFill>
        <p:spPr>
          <a:xfrm>
            <a:off x="652320" y="2146320"/>
            <a:ext cx="7321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lipboard ic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666880" y="16765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'm currently working as technician in Laboratory doing animal resear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666880" y="3124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expectations for this course are: Learn to identify sources, which one are better, accurate and rel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666880" y="39625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better inform decision maker in every aspect of my life  having the ability to find, evaluate the informatio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666880" y="2286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ought that I was good in research but in this class I realize that I have a lot to lea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1.gstatic.com/images?q=tbn:ANd9GcRsbE4oVglCnCbD_02r8REhiWL-SK0dj_ISW1rbTFOvCMonyarEOh3SZw"/>
          <p:cNvPicPr/>
          <p:nvPr/>
        </p:nvPicPr>
        <p:blipFill>
          <a:blip r:embed="rId1"/>
          <a:stretch/>
        </p:blipFill>
        <p:spPr>
          <a:xfrm>
            <a:off x="304920" y="1447920"/>
            <a:ext cx="2133360" cy="183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ee full size image"/>
          <p:cNvPicPr/>
          <p:nvPr/>
        </p:nvPicPr>
        <p:blipFill>
          <a:blip r:embed="rId2"/>
          <a:stretch/>
        </p:blipFill>
        <p:spPr>
          <a:xfrm>
            <a:off x="685800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media2.corbisimages.com/CorbisImage/hover/20/91/7555/20917555/42-20917555.jpg"/>
          <p:cNvPicPr/>
          <p:nvPr/>
        </p:nvPicPr>
        <p:blipFill>
          <a:blip r:embed="rId3"/>
          <a:stretch/>
        </p:blipFill>
        <p:spPr>
          <a:xfrm>
            <a:off x="3657600" y="2286000"/>
            <a:ext cx="206676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media1.corbisimages.com/CorbisImage/hover/23/6/2995/23062995/42-23062995.jpg"/>
          <p:cNvPicPr/>
          <p:nvPr/>
        </p:nvPicPr>
        <p:blipFill>
          <a:blip r:embed="rId4"/>
          <a:stretch/>
        </p:blipFill>
        <p:spPr>
          <a:xfrm>
            <a:off x="5562720" y="3352680"/>
            <a:ext cx="3276360" cy="333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media1.corbisimages.com/CorbisImage/hover/23/94/1548/23941548/42-23941548.jpg"/>
          <p:cNvPicPr/>
          <p:nvPr/>
        </p:nvPicPr>
        <p:blipFill>
          <a:blip r:embed="rId5"/>
          <a:stretch/>
        </p:blipFill>
        <p:spPr>
          <a:xfrm>
            <a:off x="228600" y="3352680"/>
            <a:ext cx="33336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9" descr=""/>
          <p:cNvPicPr/>
          <p:nvPr/>
        </p:nvPicPr>
        <p:blipFill>
          <a:blip r:embed="rId6"/>
          <a:stretch/>
        </p:blipFill>
        <p:spPr>
          <a:xfrm>
            <a:off x="3498840" y="512640"/>
            <a:ext cx="3103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bb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edia1.corbisimages.com/CorbisImage/hover/20/91/7818/20917818/42-20917818.jpg"/>
          <p:cNvPicPr/>
          <p:nvPr/>
        </p:nvPicPr>
        <p:blipFill>
          <a:blip r:embed="rId1"/>
          <a:stretch/>
        </p:blipFill>
        <p:spPr>
          <a:xfrm>
            <a:off x="457200" y="1523880"/>
            <a:ext cx="333360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media1.corbisimages.com/CorbisImage/hover/20/91/7776/20917776/42-20917776.jpg"/>
          <p:cNvPicPr/>
          <p:nvPr/>
        </p:nvPicPr>
        <p:blipFill>
          <a:blip r:embed="rId2"/>
          <a:stretch/>
        </p:blipFill>
        <p:spPr>
          <a:xfrm>
            <a:off x="5410080" y="1523880"/>
            <a:ext cx="20574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http://www.cartoonstock.com/lowres/cga0233l.jpg"/>
          <p:cNvPicPr/>
          <p:nvPr/>
        </p:nvPicPr>
        <p:blipFill>
          <a:blip r:embed="rId1"/>
          <a:stretch/>
        </p:blipFill>
        <p:spPr>
          <a:xfrm>
            <a:off x="1676520" y="1523880"/>
            <a:ext cx="548640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3041640" y="285840"/>
            <a:ext cx="26827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media3.corbisimages.com/CorbisImage/hover/17/78/6693/17786693/42-17786693.jpg"/>
          <p:cNvPicPr/>
          <p:nvPr/>
        </p:nvPicPr>
        <p:blipFill>
          <a:blip r:embed="rId1"/>
          <a:stretch/>
        </p:blipFill>
        <p:spPr>
          <a:xfrm>
            <a:off x="380880" y="1447920"/>
            <a:ext cx="2200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media2.corbisimages.com/CorbisImage/hover/16/27/2535/16272535/42-16272535.jpg"/>
          <p:cNvPicPr/>
          <p:nvPr/>
        </p:nvPicPr>
        <p:blipFill>
          <a:blip r:embed="rId2"/>
          <a:stretch/>
        </p:blipFill>
        <p:spPr>
          <a:xfrm>
            <a:off x="5334120" y="182880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media3.corbisimages.com/CorbisImage/hover/14/2/8314/14028314/OZ001463.jpg"/>
          <p:cNvPicPr/>
          <p:nvPr/>
        </p:nvPicPr>
        <p:blipFill>
          <a:blip r:embed="rId3"/>
          <a:stretch/>
        </p:blipFill>
        <p:spPr>
          <a:xfrm>
            <a:off x="2895480" y="3200400"/>
            <a:ext cx="2210040" cy="33336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6" descr=""/>
          <p:cNvPicPr/>
          <p:nvPr/>
        </p:nvPicPr>
        <p:blipFill>
          <a:blip r:embed="rId4"/>
          <a:stretch/>
        </p:blipFill>
        <p:spPr>
          <a:xfrm>
            <a:off x="3029040" y="285840"/>
            <a:ext cx="2384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tock vector : Family tree with cartoon fami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835200" y="-171360"/>
            <a:ext cx="3365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www.computerarts.co.uk/__data/assets/image/7778/3DW60featureincredib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3:02:26Z</dcterms:created>
  <dc:creator>paz</dc:creator>
  <dc:description/>
  <dc:language>en-US</dc:language>
  <cp:lastModifiedBy>training</cp:lastModifiedBy>
  <dcterms:modified xsi:type="dcterms:W3CDTF">2011-06-12T17:24:22Z</dcterms:modified>
  <cp:revision>11</cp:revision>
  <dc:subject/>
  <dc:title>Slide 1</dc:title>
</cp:coreProperties>
</file>